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3CC-19AC-4B53-BACE-2ABA210F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24F-3E12-4FD7-AFAF-6B9D674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68A-3AC4-4AD9-AE59-D402279A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230-1BC6-4637-A310-FAE8DEBA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823-5213-4C72-AA06-593C9FC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83F-899D-457B-A078-F3F276D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EE7-760C-4E52-AFEA-54D7042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094-3F55-4650-B712-6E4E134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EFD-F331-4B2A-A7CA-3D94F155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E5E-261B-403F-9489-DA09E6F3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DFA-83A5-41FA-ADFF-E431F87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730-8697-4318-B9BD-3AA09FC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0C41-6191-41C5-9325-06D1064AF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64 Buď tebe sláv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Otec večnosti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iera v teba dáva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ilu v slabosti.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víťazný náš Krá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zal si smrti práva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lávne z mŕtvych vst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Zem sa vtedy chvela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keď si zomieral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čoskoro však znela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nebom pieseň chvá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víťazný náš Krá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zal si smrti práva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lávne z mŕtvych vst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ty si žitia cie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múdrosť, láska pravá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oh náš, Spasiteľ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Žehnaj ľud svoj stále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nauč tak nás žiť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nech ťa neustále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mieme velebiť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ty si žitia cie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múdrosť, láska pravá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oh náš, Spasiteľ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Otec večnosti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iera v teba dáva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ilu v slabos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Vždy ti veriť chceme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tebe patriť len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eď len s tebou smieme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prísť na novú z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1:52Z</dcterms:modified>
  <cp:revision>21</cp:revision>
  <dc:subject/>
  <dc:title>Je veľký náš Pán, on slávy je Kráľ Nech do všetkých strán  spev vrúcnych znie chvál.</dc:title>
</cp:coreProperties>
</file>